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DE9-6810-409E-8A15-10CFDB88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FD1-5B28-47A9-8083-1B35FA4C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B8F-1567-4CE4-BA07-36973D1A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79D-33A2-44D0-9E07-06288426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0642-DEBD-4CD5-AC4B-DF60B9BD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8599-3CC0-4DB2-A5F5-65D0FA90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A031-5330-4B67-ADC5-523ADC38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A4F9-1CD6-4B3A-B686-14CD1D56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C70D-0AED-4C15-A60D-268517AB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94D1-F469-479A-98BF-47379A04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6D81-6D4C-4B9C-BDBC-F73F337B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92E-9A84-4360-9427-D08D47BD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759E-E739-43FF-98B8-2C84CD5C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AD01-CEB0-433B-A101-392B201D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81C3-9FEB-42A0-B7F1-AAB83BCA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19A5-E26F-48EF-A14C-5674A8F1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3367-DF98-47C4-9577-3E31C8BF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603-0F38-4878-AA59-73A61E8C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37B-9EFB-424B-AAD9-076E4292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105-B1E3-4151-A54C-84205D6F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548-952C-4FB2-89FA-49AF5531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F5B-4D93-4631-82C1-6BA59A17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7D8-E1D2-44BB-8484-217375AF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C7B-58AB-4E25-B1D9-1655D777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90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48D8-A727-4F41-BC1A-D63CD0A3FA38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380880" y="1600200"/>
            <a:ext cx="8305920" cy="380880"/>
            <a:chOff x="380880" y="1600200"/>
            <a:chExt cx="8305920" cy="380880"/>
          </a:xfrm>
        </p:grpSpPr>
        <p:sp>
          <p:nvSpPr>
            <p:cNvPr id="13" name=""/>
            <p:cNvSpPr/>
            <p:nvPr/>
          </p:nvSpPr>
          <p:spPr>
            <a:xfrm>
              <a:off x="609480" y="18288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0880" y="16002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56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7C14-E29F-4471-B2FA-9EB10082E1F3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fcc00"/>
                </a:solidFill>
                <a:latin typeface="Arial"/>
              </a:rPr>
              <a:t>Alarmus 2 Feat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CiCode (Multiprocess) och ctAPI stö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Webservice, larmlista, eventuppdatering, CiC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Länk till Nim2SQ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er features i AlarmClient - ljudfiler, digital 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Diverse bugfixar/workarounds (bl a 6.10 proble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TroSoft_Logga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892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3:04:18Z</dcterms:created>
  <dc:creator>Tomas Rook</dc:creator>
  <dc:description/>
  <dc:language>en-US</dc:language>
  <cp:lastModifiedBy>Tomas Rook</cp:lastModifiedBy>
  <cp:lastPrinted>1995-12-08T18:33:06Z</cp:lastPrinted>
  <dcterms:modified xsi:type="dcterms:W3CDTF">2011-09-13T14:03:17Z</dcterms:modified>
  <cp:revision>9</cp:revision>
  <dc:subject/>
  <dc:title>Nimbus 3 - Features</dc:title>
</cp:coreProperties>
</file>