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7FA-3025-4381-BE15-CA880C72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72F-B38B-4D74-A374-8FFB9C2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1D0-9C5D-42D7-B25E-D6DC31B6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7A9-EE72-4B54-AA06-251E20C6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75B9-EFB8-4599-AF36-A487E929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AB08-97FB-4155-B3D1-0B708178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48B-5D69-4BAF-A227-69BD8FD7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DA9D-8F6B-4FB1-9B06-4471083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EB3-28FD-4DD8-8C7A-F3D1B3F2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A74D-8F61-4526-A204-8B588AB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A15-C71A-4D1A-8A4C-2D7ACF5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3AE-BD28-4BFD-A104-EE89096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5CE-C576-4190-BDD1-129B435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AAB-7D3D-4D90-8619-D485214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E07-8BF0-44DA-8EA7-BF52DA4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1B74-E4F1-48B9-AD8B-C39E3ED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C84A-6F0E-41CE-BCCE-61023498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C37-C170-489C-BA7A-88F2E69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706-48A8-4427-9A72-096DFE0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592-2955-4A72-8307-E32F0F5A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86F-9693-4FB9-8CD4-FD291DE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629-5A47-47E4-A876-908DDBC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959-5C27-4E60-8A96-0CE7F9C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731-3DAD-4B60-B9D2-3C3C9AF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FF3-A59E-4C1D-8001-394AA2FCA3D9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0573-8C1B-4199-9E2C-F520E87A118F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-2-SQL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upport för SQL samt MySQ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sert/update formatet helt konfigurerbart för varje typ av händelse (inactive, active, ac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ax fyra olika tabeller (typ ActiveAlarms, HistoricAlar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okal disk cache om servern är nere; flertrådad applikation så den inte blir så trö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egränsat antal Nimbus Generic TCP servers/cl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äsbara loggfiler, kör som tjänst, larmtest, visuellt gränssnitt mm 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4T14:14:30Z</dcterms:modified>
  <cp:revision>9</cp:revision>
  <dc:subject/>
  <dc:title>Nimbus 3 - Features</dc:title>
</cp:coreProperties>
</file>