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5B6-5890-44A1-A8FF-F57553B9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26B-9C1A-495A-8997-5B661550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C18-4A03-4934-A246-A19FA6C7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0D0-C326-47A8-8AEC-D9957C05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F150-BFAC-4533-930A-9C6EC458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C5B5-CE6F-47CB-9927-57F62BCC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88EF-1700-4B82-A63D-4700BC56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7022-E33E-495E-AD7C-04D379FA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3014-7B0F-4571-8F8A-C18668CC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818A-C83E-427C-9825-F39A0C45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EA34-A092-4DA5-8405-1A2A2EFE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F70-69F3-43C6-999E-01301E0E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BB76-0942-4F28-A5EB-F80AC172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3127-1326-49F9-903B-72406332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49F7-6865-4E92-A5FD-16F04339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5205-366E-4193-BA3D-F141C5BC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5400-FCBE-4508-B0F0-2A78A3ED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982-9807-4020-8F0B-3B30AC2C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70B-BF09-4021-ACED-8C9BF35C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4E6-7D3D-4587-ACB2-DF2063A4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7BA-0F05-4E1C-A839-B732E09B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C2F-C709-4FDF-AD81-0BC8A28D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46D-9308-43AC-B156-42CCD5DD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EC9-F821-4845-805B-9263E460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190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5DB5-AA17-4D80-A701-1DAE71F4A8BB}" type="slidenum"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380880" y="1600200"/>
            <a:ext cx="8305920" cy="380880"/>
            <a:chOff x="380880" y="1600200"/>
            <a:chExt cx="8305920" cy="380880"/>
          </a:xfrm>
        </p:grpSpPr>
        <p:sp>
          <p:nvSpPr>
            <p:cNvPr id="13" name=""/>
            <p:cNvSpPr/>
            <p:nvPr/>
          </p:nvSpPr>
          <p:spPr>
            <a:xfrm>
              <a:off x="609480" y="18288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0880" y="16002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56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3742-47A3-4DF9-8895-EFA3133C49F7}" type="slidenum"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6095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fcc00"/>
                </a:solidFill>
                <a:latin typeface="Arial"/>
              </a:rPr>
              <a:t>Nimbus 3 - Featur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69339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ytt användargränssnit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ya mottagartyper - ex SNMP, Modbus TC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Integrerad larm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Formateringspro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er info på varje larmhändel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Hierarkiska profi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Redund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Inbyggd ActiveX 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TroSoft_Logga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892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6095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fcc00"/>
                </a:solidFill>
                <a:latin typeface="Arial"/>
              </a:rPr>
              <a:t>Nimbus X - Vägkar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69339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imbus 3 plattform gammal (VB6 / VC/C++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y plattform C# (WPF?) gränssnitt, C/C++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Webservices, fördröjd sändning, ny strukt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Begynnelsen -&gt; Nimbus 1 = 900 timm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imbus 1 -&gt; Nimbus 2 = 600 timm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imbus 2 -&gt; Nimbus 3 = 350 timm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y plattform,  &gt; 1000 timm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idsaspekt 2013-201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TroSoft_Logga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892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3:04:18Z</dcterms:created>
  <dc:creator>Tomas Rook</dc:creator>
  <dc:description/>
  <dc:language>en-US</dc:language>
  <cp:lastModifiedBy>Tomas Rook</cp:lastModifiedBy>
  <cp:lastPrinted>1995-12-08T18:33:06Z</cp:lastPrinted>
  <dcterms:modified xsi:type="dcterms:W3CDTF">2011-09-13T13:33:14Z</dcterms:modified>
  <cp:revision>6</cp:revision>
  <dc:subject/>
  <dc:title>Nimbus 3 - Features</dc:title>
</cp:coreProperties>
</file>